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02BC-DCE4-4B9B-B0C3-C42A6C9C4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915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240" y="4041360"/>
            <a:ext cx="8915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1061-3927-48F2-B5D8-43EEF0EA9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350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6640" y="1294920"/>
            <a:ext cx="4350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240" y="4041360"/>
            <a:ext cx="4350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96640" y="4041360"/>
            <a:ext cx="4350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DEE1-0BA8-47F1-A9E2-5B1790722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287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2880" y="1294920"/>
            <a:ext cx="287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7520" y="1294920"/>
            <a:ext cx="287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240" y="4041360"/>
            <a:ext cx="287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2880" y="4041360"/>
            <a:ext cx="287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7520" y="4041360"/>
            <a:ext cx="287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13E4-759D-42E9-A9FF-B773E1922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FD320-11F3-4566-A54E-F2862346D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240" y="129492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04E0B-FBA8-4CF6-86E4-653ECE2B4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430AD-11C8-4FCA-90E5-4376B4DDA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350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96640" y="1294920"/>
            <a:ext cx="4350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CB388-0E26-42D3-AA71-FDC0A1DED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48503-8DA0-429F-92CE-6CE68108D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EB95B-3144-400D-9662-B9B51C202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350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96640" y="1294920"/>
            <a:ext cx="4350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240" y="4041360"/>
            <a:ext cx="4350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9CD86-922C-4814-8BD0-4A9C1638F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240" y="129492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8DE1-E91C-4B3C-8D80-225738233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350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96640" y="1294920"/>
            <a:ext cx="4350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96640" y="4041360"/>
            <a:ext cx="4350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43A4B-03FB-4A78-B2F7-F313EBD09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350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96640" y="1294920"/>
            <a:ext cx="4350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240" y="4041360"/>
            <a:ext cx="8915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4489C-D89C-40EA-8C37-230AC4874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915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240" y="4041360"/>
            <a:ext cx="8915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B4613-E463-4D84-BE1D-F3C8BF3B9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350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96640" y="1294920"/>
            <a:ext cx="4350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240" y="4041360"/>
            <a:ext cx="4350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96640" y="4041360"/>
            <a:ext cx="4350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4F671-C46F-4DF7-AC9D-414A006DC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287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42880" y="1294920"/>
            <a:ext cx="287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57520" y="1294920"/>
            <a:ext cx="287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240" y="4041360"/>
            <a:ext cx="287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42880" y="4041360"/>
            <a:ext cx="287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57520" y="4041360"/>
            <a:ext cx="287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4D74E-593B-4653-86FA-338C78B27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B00E-C4D4-423D-880C-398C012CC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350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96640" y="1294920"/>
            <a:ext cx="4350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2080-2815-40A1-869C-82F564C95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0FD8-8B31-401A-BEEB-30BB0FA24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7155-FF6A-4659-946E-43C1FDCA5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350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96640" y="1294920"/>
            <a:ext cx="4350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240" y="4041360"/>
            <a:ext cx="4350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9AE6-C50E-418C-B519-AA9C75F85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350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6640" y="1294920"/>
            <a:ext cx="4350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96640" y="4041360"/>
            <a:ext cx="4350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A004-FDCD-47E1-BF94-728E17168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350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6640" y="1294920"/>
            <a:ext cx="4350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240" y="4041360"/>
            <a:ext cx="8915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4F25-239D-4C85-B9C9-198D88419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129492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66072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0ACBB-236C-4A34-B60B-6874D2A0C652}" type="slidenum"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28240" y="129492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-36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0992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3433C-967D-4DAC-A868-03BD0310E8C2}" type="slidenum">
              <a:rPr b="0" lang="en-US" sz="10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360" y="1219320"/>
            <a:ext cx="88390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fd293"/>
                </a:solidFill>
                <a:latin typeface="Impact"/>
              </a:rPr>
              <a:t>Ud. and Uds. Commands</a:t>
            </a:r>
            <a:br>
              <a:rPr sz="5400"/>
            </a:br>
            <a:r>
              <a:rPr b="1" lang="en-US" sz="5400" spc="-1" strike="noStrike">
                <a:solidFill>
                  <a:srgbClr val="dfd293"/>
                </a:solidFill>
                <a:latin typeface="Impact"/>
              </a:rPr>
              <a:t>Nosotros Commands</a:t>
            </a:r>
            <a:endParaRPr b="0" lang="en-US" sz="54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-360" y="373356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Page 102</a:t>
            </a:r>
            <a:endParaRPr b="1" lang="en-US" sz="48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Avancemos 3</a:t>
            </a:r>
            <a:endParaRPr b="1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fd293"/>
                </a:solidFill>
                <a:latin typeface="Impact"/>
              </a:rPr>
              <a:t>Ud. and Uds. Commands</a:t>
            </a:r>
            <a:endParaRPr b="0" lang="en-US" sz="54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6000" y="1523880"/>
            <a:ext cx="8837640" cy="443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Tahoma"/>
              </a:rPr>
              <a:t>-car (c to qu)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Buscar - Negative tú command?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No busques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Negative Ud. command?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No busque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Negative Uds. command?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No busquen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 thruBlk="true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1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6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1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6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1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6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1" dur="5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fd293"/>
                </a:solidFill>
                <a:latin typeface="Impact"/>
              </a:rPr>
              <a:t>Ud. and Uds. Commands</a:t>
            </a:r>
            <a:endParaRPr b="0" lang="en-US" sz="54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6000" y="1523880"/>
            <a:ext cx="8837640" cy="443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Tahoma"/>
              </a:rPr>
              <a:t>-zar (z to c)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Cruzar - Negative tú command?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No cruces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Negative Ud. command?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No cruce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Negative Uds. command?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No crucen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 thruBlk="true"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8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3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8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3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8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3" dur="5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8" dur="5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fd293"/>
                </a:solidFill>
                <a:latin typeface="Impact"/>
              </a:rPr>
              <a:t>Ud. and Uds. Commands</a:t>
            </a:r>
            <a:endParaRPr b="0" lang="en-US" sz="54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6000" y="1523880"/>
            <a:ext cx="8837640" cy="443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Hacer - Negative tú command?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No hagas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Negative Ud. command?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No haga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Negative Uds. command?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No hagan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 thruBlk="true"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5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0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5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0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5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0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fd293"/>
                </a:solidFill>
                <a:latin typeface="Impact"/>
              </a:rPr>
              <a:t>Ud. and Uds. Commands</a:t>
            </a:r>
            <a:endParaRPr b="0" lang="en-US" sz="54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6000" y="1523880"/>
            <a:ext cx="8837640" cy="443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Dar - Negative tú command?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No des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Negative Ud. command?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No dé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Negative Uds. command?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No den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 thruBlk="true"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7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2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7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2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7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2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fd293"/>
                </a:solidFill>
                <a:latin typeface="Impact"/>
              </a:rPr>
              <a:t>Ud. and Uds. Commands</a:t>
            </a:r>
            <a:endParaRPr b="0" lang="en-US" sz="54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6000" y="1523880"/>
            <a:ext cx="8837640" cy="443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Ir - Negative tú command?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No vayas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Negative Ud. command?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No vaya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Negative Uds. command?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No vayan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 thruBlk="true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9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4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9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4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9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4" dur="5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fd293"/>
                </a:solidFill>
                <a:latin typeface="Impact"/>
              </a:rPr>
              <a:t>Ud. and Uds. Commands</a:t>
            </a:r>
            <a:endParaRPr b="0" lang="en-US" sz="54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6000" y="1523880"/>
            <a:ext cx="8837640" cy="443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Ser - Negative tú command?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No seas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Negative Ud. command?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No sea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Negative Uds. command?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No sean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 thruBlk="true"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1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6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1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6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1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6" dur="5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-360" y="3580920"/>
            <a:ext cx="89154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dfd293"/>
                </a:solidFill>
                <a:latin typeface="Impact"/>
              </a:rPr>
              <a:t>Nosotros Commands</a:t>
            </a:r>
            <a:endParaRPr b="0" lang="en-US" sz="6000" spc="-1" strike="noStrike">
              <a:solidFill>
                <a:srgbClr val="dfd293"/>
              </a:solidFill>
              <a:latin typeface="Impact"/>
            </a:endParaRPr>
          </a:p>
        </p:txBody>
      </p:sp>
    </p:spTree>
  </p:cSld>
  <p:transition spd="med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dfd293"/>
                </a:solidFill>
                <a:latin typeface="Impact"/>
              </a:rPr>
              <a:t>Nosotros Commands</a:t>
            </a: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Tahoma"/>
              </a:rPr>
              <a:t>There are two ways to suggest that others do some activity with you </a:t>
            </a:r>
            <a:r>
              <a:rPr b="1" i="1" lang="es-ES" sz="3600" spc="-1" strike="noStrike">
                <a:solidFill>
                  <a:srgbClr val="ffffff"/>
                </a:solidFill>
                <a:latin typeface="Tahoma"/>
              </a:rPr>
              <a:t>(Let´s…)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Tahoma"/>
              </a:rPr>
              <a:t>You can use the construction </a:t>
            </a:r>
            <a:r>
              <a:rPr b="1" i="1" lang="es-ES" sz="3600" spc="-1" strike="noStrike">
                <a:solidFill>
                  <a:srgbClr val="ffffff"/>
                </a:solidFill>
                <a:latin typeface="Tahoma"/>
              </a:rPr>
              <a:t>Vamos a</a:t>
            </a:r>
            <a:r>
              <a:rPr b="1" lang="es-ES" sz="3600" spc="-1" strike="noStrike">
                <a:solidFill>
                  <a:srgbClr val="ffffff"/>
                </a:solidFill>
                <a:latin typeface="Tahoma"/>
              </a:rPr>
              <a:t> + infinitive.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d3a21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d3a219"/>
                </a:solidFill>
                <a:latin typeface="Tahoma"/>
              </a:rPr>
              <a:t>Vamos a hacer</a:t>
            </a:r>
            <a:r>
              <a:rPr b="1" lang="es-ES" sz="3600" spc="-1" strike="noStrike">
                <a:solidFill>
                  <a:srgbClr val="ffffff"/>
                </a:solidFill>
                <a:latin typeface="Tahoma"/>
              </a:rPr>
              <a:t> las paces.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ff"/>
                </a:solidFill>
                <a:latin typeface="Tahoma"/>
              </a:rPr>
              <a:t>Let´s make up.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 thruBlk="true"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3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8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3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8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dfd293"/>
                </a:solidFill>
                <a:latin typeface="Impact"/>
              </a:rPr>
              <a:t>Nosotros Commands</a:t>
            </a: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Tahoma"/>
              </a:rPr>
              <a:t>You can also use a command with a nosotros form.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Tahoma"/>
              </a:rPr>
              <a:t>To form the nosotros command, 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Tahoma"/>
              </a:rPr>
              <a:t>take the </a:t>
            </a:r>
            <a:r>
              <a:rPr b="1" lang="es-ES" sz="3600" spc="-1" strike="noStrike">
                <a:solidFill>
                  <a:srgbClr val="ffcc00"/>
                </a:solidFill>
                <a:latin typeface="Tahoma"/>
              </a:rPr>
              <a:t>“Yo” </a:t>
            </a:r>
            <a:r>
              <a:rPr b="1" lang="es-ES" sz="3600" spc="-1" strike="noStrike">
                <a:solidFill>
                  <a:srgbClr val="ffffff"/>
                </a:solidFill>
                <a:latin typeface="Tahoma"/>
              </a:rPr>
              <a:t>form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Tahoma"/>
              </a:rPr>
              <a:t>remove the </a:t>
            </a:r>
            <a:r>
              <a:rPr b="1" lang="es-ES" sz="3600" spc="-1" strike="noStrike">
                <a:solidFill>
                  <a:srgbClr val="ffcc00"/>
                </a:solidFill>
                <a:latin typeface="Tahoma"/>
              </a:rPr>
              <a:t>“o”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Tahoma"/>
              </a:rPr>
              <a:t>add </a:t>
            </a:r>
            <a:r>
              <a:rPr b="1" lang="es-ES" sz="3600" spc="-1" strike="noStrike">
                <a:solidFill>
                  <a:srgbClr val="ffcc00"/>
                </a:solidFill>
                <a:latin typeface="Tahoma"/>
              </a:rPr>
              <a:t>–emos </a:t>
            </a:r>
            <a:r>
              <a:rPr b="1" lang="es-ES" sz="3600" spc="-1" strike="noStrike">
                <a:solidFill>
                  <a:srgbClr val="ffffff"/>
                </a:solidFill>
                <a:latin typeface="Tahoma"/>
              </a:rPr>
              <a:t>(for an –ar verb)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Tahoma"/>
              </a:rPr>
              <a:t>add </a:t>
            </a:r>
            <a:r>
              <a:rPr b="1" lang="es-ES" sz="3600" spc="-1" strike="noStrike">
                <a:solidFill>
                  <a:srgbClr val="ffcc00"/>
                </a:solidFill>
                <a:latin typeface="Tahoma"/>
              </a:rPr>
              <a:t>–amos </a:t>
            </a:r>
            <a:r>
              <a:rPr b="1" lang="es-ES" sz="3600" spc="-1" strike="noStrike">
                <a:solidFill>
                  <a:srgbClr val="ffffff"/>
                </a:solidFill>
                <a:latin typeface="Tahoma"/>
              </a:rPr>
              <a:t>(for an –er/-ir verb)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 thruBlk="true"/>
  </p:transition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5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0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5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0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5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0" dur="5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dfd293"/>
                </a:solidFill>
                <a:latin typeface="Impact"/>
              </a:rPr>
              <a:t>Nosotros Commands</a:t>
            </a: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228240" y="129492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3a21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d3a219"/>
                </a:solidFill>
                <a:latin typeface="Tahoma"/>
              </a:rPr>
              <a:t>Resolvamos</a:t>
            </a:r>
            <a:r>
              <a:rPr b="1" lang="es-ES" sz="4000" spc="-1" strike="noStrike">
                <a:solidFill>
                  <a:srgbClr val="ffffff"/>
                </a:solidFill>
                <a:latin typeface="Tahoma"/>
              </a:rPr>
              <a:t> el conflicto.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d3a21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d3a219"/>
                </a:solidFill>
                <a:latin typeface="Tahoma"/>
              </a:rPr>
              <a:t>Let´s resolve</a:t>
            </a:r>
            <a:r>
              <a:rPr b="1" i="1" lang="es-ES" sz="4000" spc="-1" strike="noStrike">
                <a:solidFill>
                  <a:srgbClr val="ffffff"/>
                </a:solidFill>
                <a:latin typeface="Tahoma"/>
              </a:rPr>
              <a:t> the conflict.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d3a21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d3a219"/>
                </a:solidFill>
                <a:latin typeface="Tahoma"/>
              </a:rPr>
              <a:t>No reaccionemos</a:t>
            </a:r>
            <a:r>
              <a:rPr b="1" lang="es-ES" sz="4000" spc="-1" strike="noStrike">
                <a:solidFill>
                  <a:srgbClr val="ffffff"/>
                </a:solidFill>
                <a:latin typeface="Tahoma"/>
              </a:rPr>
              <a:t> tan rápido.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d3a21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d3a219"/>
                </a:solidFill>
                <a:latin typeface="Tahoma"/>
              </a:rPr>
              <a:t>Let´s not react</a:t>
            </a:r>
            <a:r>
              <a:rPr b="1" i="1" lang="es-ES" sz="4000" spc="-1" strike="noStrike">
                <a:solidFill>
                  <a:srgbClr val="ffffff"/>
                </a:solidFill>
                <a:latin typeface="Tahoma"/>
              </a:rPr>
              <a:t> so quickly.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560" y="4038480"/>
            <a:ext cx="88390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fd293"/>
                </a:solidFill>
                <a:latin typeface="Impact"/>
              </a:rPr>
              <a:t>Ud. and Uds. Commands</a:t>
            </a:r>
            <a:endParaRPr b="0" lang="en-US" sz="5400" spc="-1" strike="noStrike">
              <a:solidFill>
                <a:srgbClr val="dfd293"/>
              </a:solidFill>
              <a:latin typeface="Impact"/>
            </a:endParaRPr>
          </a:p>
        </p:txBody>
      </p:sp>
    </p:spTree>
  </p:cSld>
  <p:transition spd="med"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dfd293"/>
                </a:solidFill>
                <a:latin typeface="Impact"/>
              </a:rPr>
              <a:t>Nosotros Commands</a:t>
            </a: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Remember that stem-changing verbs whose infinitive ends in </a:t>
            </a:r>
            <a:r>
              <a:rPr b="1" i="1" lang="es-ES" sz="3200" spc="-1" strike="noStrike">
                <a:solidFill>
                  <a:srgbClr val="ffffff"/>
                </a:solidFill>
                <a:latin typeface="Tahoma"/>
              </a:rPr>
              <a:t>–ir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have a stem change of </a:t>
            </a:r>
            <a:r>
              <a:rPr b="1" i="1" lang="es-ES" sz="3200" spc="-1" strike="noStrike">
                <a:solidFill>
                  <a:srgbClr val="ffffff"/>
                </a:solidFill>
                <a:latin typeface="Tahoma"/>
              </a:rPr>
              <a:t>e&gt;i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, or </a:t>
            </a:r>
            <a:r>
              <a:rPr b="1" i="1" lang="es-ES" sz="3200" spc="-1" strike="noStrike">
                <a:solidFill>
                  <a:srgbClr val="ffffff"/>
                </a:solidFill>
                <a:latin typeface="Tahoma"/>
              </a:rPr>
              <a:t>o&gt;u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in the nosotros form.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3a21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d3a219"/>
                </a:solidFill>
                <a:latin typeface="Tahoma"/>
              </a:rPr>
              <a:t>Pidamos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perdón por el malentendido.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3a21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d3a219"/>
                </a:solidFill>
                <a:latin typeface="Tahoma"/>
              </a:rPr>
              <a:t>Let´s ask</a:t>
            </a:r>
            <a:r>
              <a:rPr b="1" i="1" lang="es-ES" sz="3200" spc="-1" strike="noStrike">
                <a:solidFill>
                  <a:srgbClr val="ffffff"/>
                </a:solidFill>
                <a:latin typeface="Tahoma"/>
              </a:rPr>
              <a:t> forgiveness for the misunderstanding.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3a21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d3a219"/>
                </a:solidFill>
                <a:latin typeface="Tahoma"/>
              </a:rPr>
              <a:t>No durmamos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al aire libre.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3a21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d3a219"/>
                </a:solidFill>
                <a:latin typeface="Tahoma"/>
              </a:rPr>
              <a:t>Let´s not sleep</a:t>
            </a:r>
            <a:r>
              <a:rPr b="1" i="1" lang="es-ES" sz="3200" spc="-1" strike="noStrike">
                <a:solidFill>
                  <a:srgbClr val="ffffff"/>
                </a:solidFill>
                <a:latin typeface="Tahoma"/>
              </a:rPr>
              <a:t> outdoors.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 thruBlk="true"/>
  </p:transition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7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2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7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2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7" dur="5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dfd293"/>
                </a:solidFill>
                <a:latin typeface="Impact"/>
              </a:rPr>
              <a:t>Nosotros Commands</a:t>
            </a: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Verbs whose infinitive ends in </a:t>
            </a:r>
            <a:r>
              <a:rPr b="1" i="1" lang="es-ES" sz="3200" spc="-1" strike="noStrike">
                <a:solidFill>
                  <a:srgbClr val="ffffff"/>
                </a:solidFill>
                <a:latin typeface="Tahoma"/>
              </a:rPr>
              <a:t>–car, -gar, and –zar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have a spelling change in the </a:t>
            </a:r>
            <a:r>
              <a:rPr b="1" i="1" lang="es-ES" sz="3200" spc="-1" strike="noStrike">
                <a:solidFill>
                  <a:srgbClr val="ffffff"/>
                </a:solidFill>
                <a:latin typeface="Tahoma"/>
              </a:rPr>
              <a:t>nosotros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form of the present subjunctive, and consequently of the nosotros command.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3a21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d3a219"/>
                </a:solidFill>
                <a:latin typeface="Tahoma"/>
              </a:rPr>
              <a:t>No critiquemos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a nuestros padres.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3a21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d3a219"/>
                </a:solidFill>
                <a:latin typeface="Tahoma"/>
              </a:rPr>
              <a:t>Let´s not criticize</a:t>
            </a:r>
            <a:r>
              <a:rPr b="1" i="1" lang="es-ES" sz="3200" spc="-1" strike="noStrike">
                <a:solidFill>
                  <a:srgbClr val="ffffff"/>
                </a:solidFill>
                <a:latin typeface="Tahoma"/>
              </a:rPr>
              <a:t> our parents.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3a21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d3a219"/>
                </a:solidFill>
                <a:latin typeface="Tahoma"/>
              </a:rPr>
              <a:t>Empecemos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a pensar un poco en ellos.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3a21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d3a219"/>
                </a:solidFill>
                <a:latin typeface="Tahoma"/>
              </a:rPr>
              <a:t>Let´s begin</a:t>
            </a:r>
            <a:r>
              <a:rPr b="1" i="1" lang="es-ES" sz="3200" spc="-1" strike="noStrike">
                <a:solidFill>
                  <a:srgbClr val="ffffff"/>
                </a:solidFill>
                <a:latin typeface="Tahoma"/>
              </a:rPr>
              <a:t> to think a little about them.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 thruBlk="true"/>
  </p:transition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4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9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4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9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4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dfd293"/>
                </a:solidFill>
                <a:latin typeface="Impact"/>
              </a:rPr>
              <a:t>Nosotros Commands</a:t>
            </a: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228240" y="129492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o say </a:t>
            </a: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let’s go,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use</a:t>
            </a: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n-US" sz="4400" spc="-1" strike="noStrike">
                <a:solidFill>
                  <a:srgbClr val="ffc000"/>
                </a:solidFill>
                <a:latin typeface="Tahoma"/>
              </a:rPr>
              <a:t>vamos</a:t>
            </a: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o say </a:t>
            </a: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let’s not go,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use</a:t>
            </a: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n-US" sz="4400" spc="-1" strike="noStrike">
                <a:solidFill>
                  <a:srgbClr val="ffc000"/>
                </a:solidFill>
                <a:latin typeface="Tahoma"/>
              </a:rPr>
              <a:t>no vayamos.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dfd293"/>
                </a:solidFill>
                <a:latin typeface="Impact"/>
              </a:rPr>
              <a:t>Nosotros Commands</a:t>
            </a: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228240" y="129492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Don’t forget verbs that end in </a:t>
            </a:r>
            <a:r>
              <a:rPr b="1" lang="en-US" sz="4000" spc="-1" strike="noStrike">
                <a:solidFill>
                  <a:srgbClr val="ffc000"/>
                </a:solidFill>
                <a:latin typeface="Tahoma"/>
              </a:rPr>
              <a:t>–gir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, like </a:t>
            </a:r>
            <a:r>
              <a:rPr b="1" i="1" lang="en-US" sz="4000" spc="-1" strike="noStrike">
                <a:solidFill>
                  <a:srgbClr val="ffffff"/>
                </a:solidFill>
                <a:latin typeface="Tahoma"/>
              </a:rPr>
              <a:t>dirigir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000" spc="-1" strike="noStrike">
                <a:solidFill>
                  <a:srgbClr val="ffc000"/>
                </a:solidFill>
                <a:latin typeface="Tahoma"/>
              </a:rPr>
              <a:t>“g” 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goes to </a:t>
            </a:r>
            <a:r>
              <a:rPr b="1" lang="en-US" sz="4000" spc="-1" strike="noStrike">
                <a:solidFill>
                  <a:srgbClr val="ffc000"/>
                </a:solidFill>
                <a:latin typeface="Tahoma"/>
              </a:rPr>
              <a:t>“j” 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in the </a:t>
            </a:r>
            <a:r>
              <a:rPr b="1" i="1" lang="en-US" sz="4000" spc="-1" strike="noStrike">
                <a:solidFill>
                  <a:srgbClr val="ffc000"/>
                </a:solidFill>
                <a:latin typeface="Tahoma"/>
              </a:rPr>
              <a:t>yo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 form.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Let’s direct the play!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ffff"/>
                </a:solidFill>
                <a:latin typeface="Tahoma"/>
              </a:rPr>
              <a:t>¡</a:t>
            </a:r>
            <a:r>
              <a:rPr b="1" i="1" lang="en-US" sz="4000" spc="-1" strike="noStrike">
                <a:solidFill>
                  <a:srgbClr val="ffc000"/>
                </a:solidFill>
                <a:latin typeface="Tahoma"/>
              </a:rPr>
              <a:t>Dirijimos </a:t>
            </a:r>
            <a:r>
              <a:rPr b="1" i="1" lang="en-US" sz="4000" spc="-1" strike="noStrike">
                <a:solidFill>
                  <a:srgbClr val="ffffff"/>
                </a:solidFill>
                <a:latin typeface="Tahoma"/>
              </a:rPr>
              <a:t>la obra de teatro!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129" name="Straight Arrow Connector 4"/>
          <p:cNvCxnSpPr/>
          <p:nvPr/>
        </p:nvCxnSpPr>
        <p:spPr>
          <a:xfrm flipH="1" flipV="1">
            <a:off x="1904760" y="5486040"/>
            <a:ext cx="762480" cy="991440"/>
          </a:xfrm>
          <a:prstGeom prst="straightConnector1">
            <a:avLst/>
          </a:prstGeom>
          <a:ln w="57240">
            <a:solidFill>
              <a:srgbClr val="ffffff"/>
            </a:solidFill>
            <a:miter/>
            <a:tailEnd len="med" type="arrow" w="med"/>
          </a:ln>
        </p:spPr>
      </p:cxnSp>
    </p:spTree>
  </p:cSld>
  <p:transition spd="med">
    <p:fade thruBlk="true"/>
  </p:transition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fd293"/>
                </a:solidFill>
                <a:latin typeface="Impact"/>
              </a:rPr>
              <a:t>Ud. and Uds. Commands</a:t>
            </a:r>
            <a:endParaRPr b="0" lang="en-US" sz="54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To give an affirmative or negative command in the </a:t>
            </a:r>
            <a:r>
              <a:rPr b="1" i="1" lang="en-US" sz="4800" spc="-1" strike="noStrike">
                <a:solidFill>
                  <a:srgbClr val="ffffff"/>
                </a:solidFill>
                <a:latin typeface="Tahoma"/>
              </a:rPr>
              <a:t>Ud. or Uds.</a:t>
            </a: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 form, use the present-tense </a:t>
            </a:r>
            <a:r>
              <a:rPr b="1" i="1" lang="en-US" sz="4800" spc="-1" strike="noStrike">
                <a:solidFill>
                  <a:srgbClr val="ffffff"/>
                </a:solidFill>
                <a:latin typeface="Tahoma"/>
              </a:rPr>
              <a:t>yo</a:t>
            </a: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 form as the stem just as you did for negative </a:t>
            </a:r>
            <a:r>
              <a:rPr b="1" i="1" lang="en-US" sz="4800" spc="-1" strike="noStrike">
                <a:solidFill>
                  <a:srgbClr val="ffffff"/>
                </a:solidFill>
                <a:latin typeface="Tahoma"/>
              </a:rPr>
              <a:t>tú</a:t>
            </a: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 commands.</a:t>
            </a:r>
            <a:endParaRPr b="1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Line 4"/>
          <p:cNvSpPr/>
          <p:nvPr/>
        </p:nvSpPr>
        <p:spPr>
          <a:xfrm>
            <a:off x="3886200" y="6019920"/>
            <a:ext cx="4419720" cy="0"/>
          </a:xfrm>
          <a:prstGeom prst="line">
            <a:avLst/>
          </a:prstGeom>
          <a:ln cap="sq" w="76320">
            <a:solidFill>
              <a:srgbClr val="ffff9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fd293"/>
                </a:solidFill>
                <a:latin typeface="Impact"/>
              </a:rPr>
              <a:t>Ud. and Uds. Commands</a:t>
            </a:r>
            <a:endParaRPr b="0" lang="en-US" sz="54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Add </a:t>
            </a:r>
            <a:r>
              <a:rPr b="1" i="1" lang="en-US" sz="4800" spc="-1" strike="noStrike">
                <a:solidFill>
                  <a:srgbClr val="ffffff"/>
                </a:solidFill>
                <a:latin typeface="Tahoma"/>
              </a:rPr>
              <a:t>-e</a:t>
            </a: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 or </a:t>
            </a:r>
            <a:r>
              <a:rPr b="1" i="1" lang="en-US" sz="4800" spc="-1" strike="noStrike">
                <a:solidFill>
                  <a:srgbClr val="ffffff"/>
                </a:solidFill>
                <a:latin typeface="Tahoma"/>
              </a:rPr>
              <a:t>-en</a:t>
            </a: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 for </a:t>
            </a:r>
            <a:r>
              <a:rPr b="1" i="1" lang="en-US" sz="4800" spc="-1" strike="noStrike">
                <a:solidFill>
                  <a:srgbClr val="ffffff"/>
                </a:solidFill>
                <a:latin typeface="Tahoma"/>
              </a:rPr>
              <a:t>-ar</a:t>
            </a: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 verbs.</a:t>
            </a:r>
            <a:endParaRPr b="1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Cortar</a:t>
            </a:r>
            <a:endParaRPr b="1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Corto</a:t>
            </a:r>
            <a:endParaRPr b="1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Señor, </a:t>
            </a:r>
            <a:r>
              <a:rPr b="1" lang="en-US" sz="4800" spc="-1" strike="noStrike">
                <a:solidFill>
                  <a:srgbClr val="be7960"/>
                </a:solidFill>
                <a:latin typeface="Tahoma"/>
              </a:rPr>
              <a:t>corte</a:t>
            </a: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 las chuletas de cerdo.</a:t>
            </a:r>
            <a:endParaRPr b="1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 thruBlk="true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fd293"/>
                </a:solidFill>
                <a:latin typeface="Impact"/>
              </a:rPr>
              <a:t>Ud. and Uds. Commands</a:t>
            </a:r>
            <a:endParaRPr b="0" lang="en-US" sz="54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Add </a:t>
            </a:r>
            <a:r>
              <a:rPr b="1" i="1" lang="en-US" sz="4800" spc="-1" strike="noStrike">
                <a:solidFill>
                  <a:srgbClr val="ffffff"/>
                </a:solidFill>
                <a:latin typeface="Tahoma"/>
              </a:rPr>
              <a:t>-e</a:t>
            </a: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 or </a:t>
            </a:r>
            <a:r>
              <a:rPr b="1" i="1" lang="en-US" sz="4800" spc="-1" strike="noStrike">
                <a:solidFill>
                  <a:srgbClr val="ffffff"/>
                </a:solidFill>
                <a:latin typeface="Tahoma"/>
              </a:rPr>
              <a:t>-en</a:t>
            </a: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 for </a:t>
            </a:r>
            <a:r>
              <a:rPr b="1" i="1" lang="en-US" sz="4800" spc="-1" strike="noStrike">
                <a:solidFill>
                  <a:srgbClr val="ffffff"/>
                </a:solidFill>
                <a:latin typeface="Tahoma"/>
              </a:rPr>
              <a:t>-ar</a:t>
            </a: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 verbs.</a:t>
            </a:r>
            <a:endParaRPr b="1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Probar</a:t>
            </a:r>
            <a:endParaRPr b="1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Pruebo</a:t>
            </a:r>
            <a:endParaRPr b="1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Señores, </a:t>
            </a:r>
            <a:r>
              <a:rPr b="1" lang="en-US" sz="4800" spc="-1" strike="noStrike">
                <a:solidFill>
                  <a:srgbClr val="be7960"/>
                </a:solidFill>
                <a:latin typeface="Tahoma"/>
              </a:rPr>
              <a:t>prueben</a:t>
            </a: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 la carne asada.</a:t>
            </a:r>
            <a:endParaRPr b="1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 thruBlk="true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fd293"/>
                </a:solidFill>
                <a:latin typeface="Impact"/>
              </a:rPr>
              <a:t>Ud. and Uds. Commands</a:t>
            </a:r>
            <a:endParaRPr b="0" lang="en-US" sz="54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Affirmative and negative </a:t>
            </a:r>
            <a:r>
              <a:rPr b="1" i="1" lang="en-US" sz="4800" spc="-1" strike="noStrike">
                <a:solidFill>
                  <a:srgbClr val="ffffff"/>
                </a:solidFill>
                <a:latin typeface="Tahoma"/>
              </a:rPr>
              <a:t>Ud.</a:t>
            </a: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1" i="1" lang="en-US" sz="4800" spc="-1" strike="noStrike">
                <a:solidFill>
                  <a:srgbClr val="ffffff"/>
                </a:solidFill>
                <a:latin typeface="Tahoma"/>
              </a:rPr>
              <a:t>Uds.</a:t>
            </a: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 commands have the same spelling changes and irregular forms as negative </a:t>
            </a:r>
            <a:r>
              <a:rPr b="1" i="1" lang="en-US" sz="4800" spc="-1" strike="noStrike">
                <a:solidFill>
                  <a:srgbClr val="ffffff"/>
                </a:solidFill>
                <a:latin typeface="Tahoma"/>
              </a:rPr>
              <a:t>tú</a:t>
            </a: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 commands.</a:t>
            </a:r>
            <a:endParaRPr b="1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Line 4"/>
          <p:cNvSpPr/>
          <p:nvPr/>
        </p:nvSpPr>
        <p:spPr>
          <a:xfrm>
            <a:off x="3962520" y="6019920"/>
            <a:ext cx="4419360" cy="0"/>
          </a:xfrm>
          <a:prstGeom prst="line">
            <a:avLst/>
          </a:prstGeom>
          <a:ln cap="sq" w="76320">
            <a:solidFill>
              <a:srgbClr val="ffff9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 thruBlk="true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fd293"/>
                </a:solidFill>
                <a:latin typeface="Impact"/>
              </a:rPr>
              <a:t>Ud. and Uds. Commands</a:t>
            </a:r>
            <a:endParaRPr b="0" lang="en-US" sz="54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dd </a:t>
            </a:r>
            <a:r>
              <a:rPr b="1" i="1" lang="en-US" sz="4400" spc="-1" strike="noStrike">
                <a:solidFill>
                  <a:srgbClr val="be7960"/>
                </a:solidFill>
                <a:latin typeface="Tahoma"/>
              </a:rPr>
              <a:t>-a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or </a:t>
            </a:r>
            <a:r>
              <a:rPr b="1" i="1" lang="en-US" sz="4400" spc="-1" strike="noStrike">
                <a:solidFill>
                  <a:srgbClr val="be7960"/>
                </a:solidFill>
                <a:latin typeface="Tahoma"/>
              </a:rPr>
              <a:t>-an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for </a:t>
            </a:r>
            <a:r>
              <a:rPr b="1" i="1" lang="en-US" sz="4400" spc="-1" strike="noStrike">
                <a:solidFill>
                  <a:srgbClr val="be7960"/>
                </a:solidFill>
                <a:latin typeface="Tahoma"/>
              </a:rPr>
              <a:t>-e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1" i="1" lang="en-US" sz="4400" spc="-1" strike="noStrike">
                <a:solidFill>
                  <a:srgbClr val="be7960"/>
                </a:solidFill>
                <a:latin typeface="Tahoma"/>
              </a:rPr>
              <a:t>-i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verbs.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erd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ierdo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No pierdan Uds. los fósforos.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Line 4"/>
          <p:cNvSpPr/>
          <p:nvPr/>
        </p:nvSpPr>
        <p:spPr>
          <a:xfrm>
            <a:off x="3809880" y="5791320"/>
            <a:ext cx="4419720" cy="0"/>
          </a:xfrm>
          <a:prstGeom prst="line">
            <a:avLst/>
          </a:prstGeom>
          <a:ln cap="sq" w="76320">
            <a:solidFill>
              <a:srgbClr val="ffff9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 thruBlk="true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5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0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5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0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fd293"/>
                </a:solidFill>
                <a:latin typeface="Impact"/>
              </a:rPr>
              <a:t>Ud. and Uds. Commands</a:t>
            </a:r>
            <a:endParaRPr b="0" lang="en-US" sz="54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dd </a:t>
            </a:r>
            <a:r>
              <a:rPr b="1" i="1" lang="en-US" sz="4400" spc="-1" strike="noStrike">
                <a:solidFill>
                  <a:srgbClr val="be7960"/>
                </a:solidFill>
                <a:latin typeface="Tahoma"/>
              </a:rPr>
              <a:t>-a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or </a:t>
            </a:r>
            <a:r>
              <a:rPr b="1" i="1" lang="en-US" sz="4400" spc="-1" strike="noStrike">
                <a:solidFill>
                  <a:srgbClr val="be7960"/>
                </a:solidFill>
                <a:latin typeface="Tahoma"/>
              </a:rPr>
              <a:t>-an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for </a:t>
            </a:r>
            <a:r>
              <a:rPr b="1" i="1" lang="en-US" sz="4400" spc="-1" strike="noStrike">
                <a:solidFill>
                  <a:srgbClr val="be7960"/>
                </a:solidFill>
                <a:latin typeface="Tahoma"/>
              </a:rPr>
              <a:t>-e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1" i="1" lang="en-US" sz="4400" spc="-1" strike="noStrike">
                <a:solidFill>
                  <a:srgbClr val="be7960"/>
                </a:solidFill>
                <a:latin typeface="Tahoma"/>
              </a:rPr>
              <a:t>-i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verbs.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ervi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irvo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eñorita, sirva la ensalada.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 thruBlk="true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2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7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2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7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fd293"/>
                </a:solidFill>
                <a:latin typeface="Impact"/>
              </a:rPr>
              <a:t>Ud. and Uds. Commands</a:t>
            </a:r>
            <a:endParaRPr b="0" lang="en-US" sz="54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6000" y="1523880"/>
            <a:ext cx="8837640" cy="443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Tahoma"/>
              </a:rPr>
              <a:t>-gar (g to gu)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Llegar - Negative tú command?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No llegues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Negative Ud. command?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No llegue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Negative Uds. command?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No lleguen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 thruBlk="true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4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9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4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9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4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9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4" dur="5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4T01:00:05Z</dcterms:created>
  <dc:creator>Suzanne M. Shirley</dc:creator>
  <dc:description/>
  <dc:language>en-US</dc:language>
  <cp:lastModifiedBy>Local User</cp:lastModifiedBy>
  <dcterms:modified xsi:type="dcterms:W3CDTF">2009-10-26T18:10:32Z</dcterms:modified>
  <cp:revision>10</cp:revision>
  <dc:subject/>
  <dc:title>Nosotros Command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900281033</vt:lpwstr>
  </property>
</Properties>
</file>